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8.jpeg" ContentType="image/jpeg"/>
  <Override PartName="/ppt/media/image7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5F56F-574E-416D-8BA5-4349071255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93537-F9C6-4723-8D84-C60BB8625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11488-A6D0-46E7-8596-E7133F17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BBF77-0D9F-4523-8BF9-22444A21C1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7E47D-E0AD-41E4-80EF-0F5C1EC68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6B7740-4D51-45B4-87F2-8989AC71A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32BC08-3FC4-41A9-841B-E58004E06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CC74B9-D9C0-48D3-9BC1-C5D696371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B49C35-16B7-49C6-989B-DD190C014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40CC28-8E15-4B94-9638-06B118418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D081B-F1BC-4D35-84F7-1F1B0C526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1C579D-54B2-4C90-9184-45A84102D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653D77-948C-4511-84A3-289FEDB2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2E1186-F7C6-4398-9A2B-FC6C5CA0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F92243-5F21-4ED6-8B35-166CB771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BADA35-645B-4DC7-A355-5AA0D4D09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80B07A-F7E7-4C68-80C9-81E27B025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AB8761-8696-4EB6-A179-599C5884D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673AB-EA24-4FDE-AB2E-ACB57A129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E6B25-4F98-4449-8DBC-F8168DA48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3056E-612C-403E-B465-139BF089A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4B22D-F900-4249-A665-F97ECF189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85CE6-FF2E-48DA-AE2E-2702E7FC4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3D53E-0416-451A-8C1C-D99191503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9EE94-EB23-4F28-A37F-D174F8BF8AF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E57E6-1F27-473E-82B8-C0D08751AFA4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17771-DF57-4097-AFAC-A473E5EC03A2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DD0B6-C751-4CCF-B0A0-0A6B87A105F2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第七章  营养性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疾病患儿的护理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北京大学护理学院     杨园园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改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体重不增：最早出现的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体重下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皮下脂肪减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顺序：腹部→躯干→臀部→四肢→面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身长不增，智力发育落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脏器功能受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并发症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30BFD-99AB-4EA0-AB67-0AE219DA148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并发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性贫血：最常见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各种维生素缺乏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发性低血糖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D6658-EF8A-41B2-BC69-3513D55A308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分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型：能量供应不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型：蛋白质供应不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型：介于两者之间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A6E0E-2AC0-463B-BCCC-E9511D1524A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分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重低下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迟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89C35-2FB8-4782-B3E5-8C38BAE1721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清白蛋白降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胰岛素样生长因子降低：敏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种血清酶活性降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0A6A-53BC-4B95-B122-28082E2883A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祛除病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调整饮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并发症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92437-15A8-4957-80E0-CF9B6F3B27B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入院后完善相关检查，给予补液纠正低血糖、电解质紊乱，给予肠黏膜保护剂及肠道微生态制剂，同时进行饮食调整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患儿护理评估的内容包括哪些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如何对该患儿进行饮食指导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该患儿的日常生活护理应注意哪些方面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A29EB-380C-43A3-AD34-2332091FFEF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3708C-2874-418D-9A68-2BD1CFFB22D8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身体状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状况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B167C-C4CE-4F72-AAFA-AC1E974F2E1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热量和（或）蛋白质摄入不足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感染的危险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营养素缺乏，机体免疫低下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成长发展改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营养素缺乏，不能满足小儿成长发展所需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潜在并发症：营养性缺铁性贫血、低血糖、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知识缺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儿家长缺乏营养知识及小儿喂养知识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E71DC-A009-465A-96D2-70F90D4403D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饮食调整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的供给：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多，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稠，循序渐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蛋白的供给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5~2g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kg·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0~4.5g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kg·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及微量元素的供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选择适当的喂养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建立良好饮食习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DB940-B4C6-4472-9B2F-1293646C5EC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Line 7"/>
          <p:cNvSpPr/>
          <p:nvPr/>
        </p:nvSpPr>
        <p:spPr>
          <a:xfrm>
            <a:off x="5237280" y="2565360"/>
            <a:ext cx="649080" cy="0"/>
          </a:xfrm>
          <a:prstGeom prst="line">
            <a:avLst/>
          </a:prstGeom>
          <a:ln cap="sq"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843280" y="1916280"/>
            <a:ext cx="396072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蛋白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能量营养不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单纯性肥胖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缺乏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锌缺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55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8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1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62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消化，改善食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感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观察病情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79C45-2071-4AE0-8BAB-4DDE4126ADF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营养不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06CB6-84F3-475B-A8ED-BB9859A63E5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40A76-DB02-411C-832A-4723E19AC749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健康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：喂养史、生长发育史，有无母乳不足、喂养不当或不良的饮食习惯，有无消化道畸形或其他消耗性疾病，是否早产或多胎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身体状况：身长、体重、皮下脂肪厚度、皮肤状况，有无精神改变、肌张力下降、体温下降以及心率心音等是否正常。检查血清白蛋白、胰岛素样生长因子Ⅰ、血清酶活性、血糖、胆固醇、各种电解质及微量元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心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社会状况 ：评估患儿和家长对疾病的认识程度、对治疗和护理的依从性，了解家庭亲子关系、经济状况以及患儿的个性特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4916B-9063-4A9D-A0C1-D4E845745DD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BEAD0-4725-4174-93E5-81E44AD385B4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250560" y="137124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的饮食指导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原则：根据病情和对食物的耐受程度调整饮食，由少到多，由稀到稠，循序渐进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能量的供给：该患儿属于中度营养不良，开始每日提供能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0kcal/kg,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逐渐增加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2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70kcal/k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待体重接近正常后再恢复至正常生理需要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蛋白的供给：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5~2g/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kg·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 增加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0~4.5g/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kg·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选择富含各类维生素和微量元素的新鲜食物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选择适当的喂养方法：如果胃肠功能尚好，应尽量选择口服的方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建立良好饮食习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79EB8-9142-4EC8-80B0-159F8A5F7F1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B00A9-CE1A-430A-A701-2029D1E4E409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日常生活护理应注意的问题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预防感染：保持皮肤、口腔清洁；注意室内空气清新，温度适宜；采用保护性隔离，预防呼吸系统感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注意观察病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进行科学喂养，注意膳食合理搭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加强体格锻炼，增强体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1A750-2E2D-4ECF-8DED-2F99A376183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CBFFD-BDBD-4D82-B7EE-628725FF7309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小儿单纯性肥胖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肥胖症是由于能量的摄入长期超过人体的消耗，导致体内脂肪积蓄过多，体重超过一定范围的营养障碍性疾病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0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我国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学龄儿童中，男生肥胖检出率介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67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1.97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之间，女生肥胖检出率介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.7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. 22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之间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B15A2-265B-4387-8749-F513964D9B8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能量摄入过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活动过少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遗传因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：疾病、精神创伤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CAB15-2A3B-4838-A43C-5D2F5B173D9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龄：好发于婴儿期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5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、青春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食欲：旺盛、喜甜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皮肤：白色或紫色皮纹、皱褶处易糜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型：皮下脂肪丰满、分布均匀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障碍：自卑、胆怯、孤独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9AE6E-57E0-469B-8758-561967D1C81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   疗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饮食疗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动疗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9E814-8C3E-4445-AECE-C333A364BC0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诊断 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高于机体需要量  与摄入高能量食物过多和（或）运动过少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交障碍  与肥胖引起的心理障碍，不愿运动等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身体意象紊乱  与肥胖引起的自身形体改变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焦虑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控制饮食困难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CD06C-8286-4EC2-9366-5DBFB6FC7D1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7" name="Picture 4" descr="u=2792694762,1971384169&amp;gp=-42"/>
          <p:cNvPicPr/>
          <p:nvPr/>
        </p:nvPicPr>
        <p:blipFill>
          <a:blip r:embed="rId1"/>
          <a:stretch/>
        </p:blipFill>
        <p:spPr>
          <a:xfrm>
            <a:off x="5796000" y="4330800"/>
            <a:ext cx="230508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28ae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说出小儿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营养不良和单纯性肥胖症病因和临床表现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和手足搐搦症的病因和临床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和手足搐搦症的发病机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锌缺乏症的临床表现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为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营养不良和单纯性肥胖症小儿做喂养指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正确地为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手足搐搦症患儿进行急救处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正确评估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营养不良、单纯性肥胖症和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患儿，并为其制订护理计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9EB4A-2E3C-4D9B-8645-E95EBB803BC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饮食管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16E5D-7D65-4C9C-9677-851B8329FE7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755640" y="1989000"/>
            <a:ext cx="7993080" cy="3672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摄入热能＜消耗，但要满足小儿的基本营养及生长发育需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理饮食结构：低脂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%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、低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%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高蛋白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%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择体积大、低热能的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培养良好饮食习惯：少食多餐、不吃零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增加运动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9525-9852-463E-AAB7-1C44A52B1A8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611280" y="2276640"/>
            <a:ext cx="8208720" cy="4001760"/>
          </a:xfrm>
          <a:prstGeom prst="rect">
            <a:avLst/>
          </a:prstGeom>
          <a:solidFill>
            <a:srgbClr val="e8e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运动形式：有氧运动，容易坚持，有体重移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运动量：以患儿最大耐受力而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家长参与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预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孕后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婴儿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学龄前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春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011A8-3192-4F08-AED2-D82B0E41F3B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维生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缺乏性佝偻病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于体内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足，导致体内钙、磷代谢失常，造成以骨骼畸形为主要表现的全身性、慢性、营养性疾病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婴幼儿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97725-7EDF-4506-A60E-F60403563D3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4560" y="1371240"/>
            <a:ext cx="871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男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近两个月来夜间爱哭闹，不易安抚，多汗。母乳喂养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后开始添加辅食，现每天添加菜泥、果泥及米粉。患儿生于北方，正值冬季，户外活动每日不足半小时且未规律服用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制剂。母孕期无其他疾病。体检见：身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5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体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8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方颅，前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5cm×1.5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尚未出牙，枕后头发脱落，未出牙。其余检查均正常。实验室检查结果：血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15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K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8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碱性磷酸酶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35IU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线见尺桡骨远端干骺端临时钙化带模糊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该患儿的临床诊断可能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该患儿的治疗要点有哪些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F818B-01E1-42B2-A4CB-78FC563CDA8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23E4-C41B-4523-B177-9E9E79A6199F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维生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的来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09280" y="1557360"/>
            <a:ext cx="693108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肤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脱氢胆固醇   主要来源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紫外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胆骨化醇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V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食物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动物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V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植物  麦角固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紫外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麦角骨化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V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物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V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制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胎盘转运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F328E-871C-4E1D-9186-B2505FA7E93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AutoShape 4"/>
          <p:cNvSpPr/>
          <p:nvPr/>
        </p:nvSpPr>
        <p:spPr>
          <a:xfrm>
            <a:off x="755640" y="3068640"/>
            <a:ext cx="71280" cy="2664000"/>
          </a:xfrm>
          <a:custGeom>
            <a:avLst/>
            <a:gdLst>
              <a:gd name="textAreaLeft" fmla="*/ 20880 w 71280"/>
              <a:gd name="textAreaRight" fmla="*/ 71640 w 71280"/>
              <a:gd name="textAreaTop" fmla="*/ 34920 h 2664000"/>
              <a:gd name="textAreaBottom" fmla="*/ 2629080 h 266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84"/>
                  <a:pt x="0" y="568"/>
                </a:cubicBezTo>
                <a:lnTo>
                  <a:pt x="0" y="21032"/>
                </a:lnTo>
                <a:cubicBezTo>
                  <a:pt x="0" y="21316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Text Box 5"/>
          <p:cNvSpPr/>
          <p:nvPr/>
        </p:nvSpPr>
        <p:spPr>
          <a:xfrm>
            <a:off x="179280" y="3860640"/>
            <a:ext cx="50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外源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Text Box 6"/>
          <p:cNvSpPr/>
          <p:nvPr/>
        </p:nvSpPr>
        <p:spPr>
          <a:xfrm>
            <a:off x="179280" y="1752480"/>
            <a:ext cx="457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" name="Line 7"/>
          <p:cNvSpPr/>
          <p:nvPr/>
        </p:nvSpPr>
        <p:spPr>
          <a:xfrm>
            <a:off x="3276720" y="19890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AutoShape 11"/>
          <p:cNvSpPr/>
          <p:nvPr/>
        </p:nvSpPr>
        <p:spPr>
          <a:xfrm>
            <a:off x="826920" y="3500280"/>
            <a:ext cx="152640" cy="533520"/>
          </a:xfrm>
          <a:custGeom>
            <a:avLst/>
            <a:gdLst>
              <a:gd name="textAreaLeft" fmla="*/ 44640 w 152640"/>
              <a:gd name="textAreaRight" fmla="*/ 153000 w 152640"/>
              <a:gd name="textAreaTop" fmla="*/ 21960 h 533520"/>
              <a:gd name="textAreaBottom" fmla="*/ 51156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维生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的转化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A4EEC-94E0-4C05-AAC8-2DA4E70A98D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4114800" y="17524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VD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Line 4"/>
          <p:cNvSpPr/>
          <p:nvPr/>
        </p:nvSpPr>
        <p:spPr>
          <a:xfrm>
            <a:off x="4419720" y="2362320"/>
            <a:ext cx="0" cy="9144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Text Box 5"/>
          <p:cNvSpPr/>
          <p:nvPr/>
        </p:nvSpPr>
        <p:spPr>
          <a:xfrm>
            <a:off x="3429000" y="3505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5-(OH)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Line 6"/>
          <p:cNvSpPr/>
          <p:nvPr/>
        </p:nvSpPr>
        <p:spPr>
          <a:xfrm>
            <a:off x="4419720" y="4267080"/>
            <a:ext cx="0" cy="9144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3429000" y="5257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25(OH)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D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宋体"/>
                <a:ea typeface="宋体"/>
              </a:rPr>
              <a:t>3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" name="Text Box 8"/>
          <p:cNvSpPr/>
          <p:nvPr/>
        </p:nvSpPr>
        <p:spPr>
          <a:xfrm>
            <a:off x="2590920" y="25146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25-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羟化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83" name="Picture 10" descr="图片1"/>
          <p:cNvPicPr/>
          <p:nvPr/>
        </p:nvPicPr>
        <p:blipFill>
          <a:blip r:embed="rId1"/>
          <a:srcRect l="7157" t="0" r="0" b="-5247"/>
          <a:stretch/>
        </p:blipFill>
        <p:spPr>
          <a:xfrm>
            <a:off x="4572000" y="4191120"/>
            <a:ext cx="660240" cy="990360"/>
          </a:xfrm>
          <a:prstGeom prst="rect">
            <a:avLst/>
          </a:prstGeom>
          <a:ln w="0">
            <a:noFill/>
          </a:ln>
        </p:spPr>
      </p:pic>
      <p:sp>
        <p:nvSpPr>
          <p:cNvPr id="384" name="Text Box 11"/>
          <p:cNvSpPr/>
          <p:nvPr/>
        </p:nvSpPr>
        <p:spPr>
          <a:xfrm>
            <a:off x="2638080" y="4419720"/>
            <a:ext cx="145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1-</a:t>
            </a:r>
            <a:r>
              <a:rPr b="1" lang="el-GR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羟化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85" name="Picture 13" descr="图片2"/>
          <p:cNvPicPr/>
          <p:nvPr/>
        </p:nvPicPr>
        <p:blipFill>
          <a:blip r:embed="rId2"/>
          <a:srcRect l="1597" t="1606" r="816" b="2811"/>
          <a:stretch/>
        </p:blipFill>
        <p:spPr>
          <a:xfrm>
            <a:off x="4648320" y="2514600"/>
            <a:ext cx="990360" cy="604800"/>
          </a:xfrm>
          <a:prstGeom prst="rect">
            <a:avLst/>
          </a:prstGeom>
          <a:ln w="0">
            <a:noFill/>
          </a:ln>
        </p:spPr>
      </p:pic>
      <p:sp>
        <p:nvSpPr>
          <p:cNvPr id="386" name="Text Box 14"/>
          <p:cNvSpPr/>
          <p:nvPr/>
        </p:nvSpPr>
        <p:spPr>
          <a:xfrm>
            <a:off x="4724280" y="17524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＋ </a:t>
            </a:r>
            <a:r>
              <a:rPr b="1" lang="zh-CN" sz="2800" spc="-1" strike="noStrike">
                <a:solidFill>
                  <a:srgbClr val="046ca6"/>
                </a:solidFill>
                <a:latin typeface="华文仿宋"/>
                <a:ea typeface="华文仿宋"/>
              </a:rPr>
              <a:t>血浆中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DBP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DCD01-146A-4021-8E6F-8A0482EEB35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304920" y="3929040"/>
            <a:ext cx="2276280" cy="257184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3"/>
          <p:cNvSpPr/>
          <p:nvPr/>
        </p:nvSpPr>
        <p:spPr>
          <a:xfrm>
            <a:off x="2790720" y="1033560"/>
            <a:ext cx="3560760" cy="703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维生素</a:t>
            </a:r>
            <a:r>
              <a:rPr b="1" lang="en-US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D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的作用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2" name="Picture 4" descr=""/>
          <p:cNvPicPr/>
          <p:nvPr/>
        </p:nvPicPr>
        <p:blipFill>
          <a:blip r:embed="rId3"/>
          <a:stretch/>
        </p:blipFill>
        <p:spPr>
          <a:xfrm>
            <a:off x="7162920" y="4614840"/>
            <a:ext cx="1109520" cy="1604880"/>
          </a:xfrm>
          <a:prstGeom prst="rect">
            <a:avLst/>
          </a:prstGeom>
          <a:ln w="0">
            <a:noFill/>
          </a:ln>
        </p:spPr>
      </p:pic>
      <p:sp>
        <p:nvSpPr>
          <p:cNvPr id="393" name="Line 6"/>
          <p:cNvSpPr/>
          <p:nvPr/>
        </p:nvSpPr>
        <p:spPr>
          <a:xfrm flipH="1">
            <a:off x="2195280" y="1841400"/>
            <a:ext cx="2971800" cy="36576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Text Box 7"/>
          <p:cNvSpPr/>
          <p:nvPr/>
        </p:nvSpPr>
        <p:spPr>
          <a:xfrm>
            <a:off x="3200400" y="3243240"/>
            <a:ext cx="2133720" cy="368280"/>
          </a:xfrm>
          <a:prstGeom prst="rect">
            <a:avLst/>
          </a:prstGeom>
          <a:solidFill>
            <a:srgbClr val="caeeca"/>
          </a:solidFill>
          <a:ln w="93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华文仿宋"/>
              </a:rPr>
              <a:t>促进小肠黏膜对钙磷的吸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Line 8"/>
          <p:cNvSpPr/>
          <p:nvPr/>
        </p:nvSpPr>
        <p:spPr>
          <a:xfrm flipH="1">
            <a:off x="2124000" y="1719360"/>
            <a:ext cx="1609920" cy="2576520"/>
          </a:xfrm>
          <a:prstGeom prst="line">
            <a:avLst/>
          </a:prstGeom>
          <a:ln w="3816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" name="Text Box 9"/>
          <p:cNvSpPr/>
          <p:nvPr/>
        </p:nvSpPr>
        <p:spPr>
          <a:xfrm>
            <a:off x="1752480" y="2023920"/>
            <a:ext cx="2133720" cy="368280"/>
          </a:xfrm>
          <a:prstGeom prst="rect">
            <a:avLst/>
          </a:prstGeom>
          <a:solidFill>
            <a:srgbClr val="ffffb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仿宋"/>
              </a:rPr>
              <a:t>促进肾小管对钙磷的重吸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7" name="Line 10"/>
          <p:cNvSpPr/>
          <p:nvPr/>
        </p:nvSpPr>
        <p:spPr>
          <a:xfrm>
            <a:off x="5181480" y="1795320"/>
            <a:ext cx="2210040" cy="32004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Text Box 11"/>
          <p:cNvSpPr/>
          <p:nvPr/>
        </p:nvSpPr>
        <p:spPr>
          <a:xfrm>
            <a:off x="5638680" y="3624120"/>
            <a:ext cx="2819520" cy="368280"/>
          </a:xfrm>
          <a:prstGeom prst="rect">
            <a:avLst/>
          </a:prstGeom>
          <a:solidFill>
            <a:srgbClr val="bdde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华文仿宋"/>
              </a:rPr>
              <a:t>促进成骨细胞增殖破骨细胞分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  因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日光照射不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摄入不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过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疾病的影响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的影响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42C6D-557B-441B-AC5A-B711C7E4DF8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31FAC-1EB0-4C76-9DF3-0A717ADE2DE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3" name="Text Box 2"/>
          <p:cNvSpPr/>
          <p:nvPr/>
        </p:nvSpPr>
        <p:spPr>
          <a:xfrm>
            <a:off x="1908000" y="127080"/>
            <a:ext cx="48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VD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缺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Line 3"/>
          <p:cNvSpPr/>
          <p:nvPr/>
        </p:nvSpPr>
        <p:spPr>
          <a:xfrm flipH="1">
            <a:off x="5410080" y="2641680"/>
            <a:ext cx="457200" cy="3808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" name="Line 5"/>
          <p:cNvSpPr/>
          <p:nvPr/>
        </p:nvSpPr>
        <p:spPr>
          <a:xfrm>
            <a:off x="5562720" y="4699080"/>
            <a:ext cx="0" cy="6094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6" name="Line 8"/>
          <p:cNvSpPr/>
          <p:nvPr/>
        </p:nvSpPr>
        <p:spPr>
          <a:xfrm>
            <a:off x="2286000" y="3479760"/>
            <a:ext cx="0" cy="6858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Line 9"/>
          <p:cNvSpPr/>
          <p:nvPr/>
        </p:nvSpPr>
        <p:spPr>
          <a:xfrm>
            <a:off x="2286000" y="4622760"/>
            <a:ext cx="0" cy="68112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Line 10"/>
          <p:cNvSpPr/>
          <p:nvPr/>
        </p:nvSpPr>
        <p:spPr>
          <a:xfrm>
            <a:off x="2268360" y="5716440"/>
            <a:ext cx="0" cy="5032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Line 11"/>
          <p:cNvSpPr/>
          <p:nvPr/>
        </p:nvSpPr>
        <p:spPr>
          <a:xfrm>
            <a:off x="6095880" y="660240"/>
            <a:ext cx="0" cy="22860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Line 12"/>
          <p:cNvSpPr/>
          <p:nvPr/>
        </p:nvSpPr>
        <p:spPr>
          <a:xfrm>
            <a:off x="6095880" y="1265400"/>
            <a:ext cx="0" cy="2286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1" name="Line 13"/>
          <p:cNvSpPr/>
          <p:nvPr/>
        </p:nvSpPr>
        <p:spPr>
          <a:xfrm>
            <a:off x="6095880" y="1803240"/>
            <a:ext cx="0" cy="30492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Line 14"/>
          <p:cNvSpPr/>
          <p:nvPr/>
        </p:nvSpPr>
        <p:spPr>
          <a:xfrm flipH="1">
            <a:off x="3885840" y="3251160"/>
            <a:ext cx="60948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3" name="Line 15"/>
          <p:cNvSpPr/>
          <p:nvPr/>
        </p:nvSpPr>
        <p:spPr>
          <a:xfrm flipH="1">
            <a:off x="3200040" y="5460840"/>
            <a:ext cx="114300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4" name="Line 16"/>
          <p:cNvSpPr/>
          <p:nvPr/>
        </p:nvSpPr>
        <p:spPr>
          <a:xfrm>
            <a:off x="5580000" y="3556080"/>
            <a:ext cx="0" cy="57636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Rectangle 18"/>
          <p:cNvSpPr/>
          <p:nvPr/>
        </p:nvSpPr>
        <p:spPr>
          <a:xfrm>
            <a:off x="7093080" y="32400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5486400" y="2184480"/>
          <a:ext cx="1523880" cy="457200"/>
        </p:xfrm>
        <a:graphic>
          <a:graphicData uri="http://schemas.openxmlformats.org/drawingml/2006/table">
            <a:tbl>
              <a:tblPr/>
              <a:tblGrid>
                <a:gridCol w="1523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Times New Roman"/>
                          <a:ea typeface="华文仿宋"/>
                        </a:rPr>
                        <a:t>甲状旁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7" name="Line 25"/>
          <p:cNvSpPr/>
          <p:nvPr/>
        </p:nvSpPr>
        <p:spPr>
          <a:xfrm>
            <a:off x="2658960" y="6453360"/>
            <a:ext cx="205740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8" name="Line 26"/>
          <p:cNvSpPr/>
          <p:nvPr/>
        </p:nvSpPr>
        <p:spPr>
          <a:xfrm flipH="1" flipV="1">
            <a:off x="1066680" y="1650600"/>
            <a:ext cx="4267440" cy="4680"/>
          </a:xfrm>
          <a:prstGeom prst="line">
            <a:avLst/>
          </a:prstGeom>
          <a:ln cap="sq"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9" name="Line 27"/>
          <p:cNvSpPr/>
          <p:nvPr/>
        </p:nvSpPr>
        <p:spPr>
          <a:xfrm>
            <a:off x="1066680" y="5460840"/>
            <a:ext cx="38124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Line 28"/>
          <p:cNvSpPr/>
          <p:nvPr/>
        </p:nvSpPr>
        <p:spPr>
          <a:xfrm>
            <a:off x="1066680" y="1655640"/>
            <a:ext cx="0" cy="3810240"/>
          </a:xfrm>
          <a:prstGeom prst="line">
            <a:avLst/>
          </a:prstGeom>
          <a:ln cap="sq"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4788000" y="6222960"/>
          <a:ext cx="1371600" cy="51768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佝偻病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b3"/>
                    </a:solidFill>
                  </a:tcPr>
                </a:tc>
              </a:tr>
            </a:tbl>
          </a:graphicData>
        </a:graphic>
      </p:graphicFrame>
      <p:sp>
        <p:nvSpPr>
          <p:cNvPr id="422" name="Text Box 35"/>
          <p:cNvSpPr/>
          <p:nvPr/>
        </p:nvSpPr>
        <p:spPr>
          <a:xfrm>
            <a:off x="5105520" y="9414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肠道吸收钙磷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3" name="Text Box 36"/>
          <p:cNvSpPr/>
          <p:nvPr/>
        </p:nvSpPr>
        <p:spPr>
          <a:xfrm>
            <a:off x="5715000" y="14446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血钙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4" name="Text Box 37"/>
          <p:cNvSpPr/>
          <p:nvPr/>
        </p:nvSpPr>
        <p:spPr>
          <a:xfrm>
            <a:off x="1219320" y="302256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肾小管重吸收磷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5" name="Text Box 38"/>
          <p:cNvSpPr/>
          <p:nvPr/>
        </p:nvSpPr>
        <p:spPr>
          <a:xfrm>
            <a:off x="4648320" y="302724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PTH</a:t>
            </a: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分泌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6" name="Text Box 40"/>
          <p:cNvSpPr/>
          <p:nvPr/>
        </p:nvSpPr>
        <p:spPr>
          <a:xfrm>
            <a:off x="4572000" y="41068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破骨作用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7" name="Text Box 42"/>
          <p:cNvSpPr/>
          <p:nvPr/>
        </p:nvSpPr>
        <p:spPr>
          <a:xfrm>
            <a:off x="1905120" y="408924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血磷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" name="Text Box 44"/>
          <p:cNvSpPr/>
          <p:nvPr/>
        </p:nvSpPr>
        <p:spPr>
          <a:xfrm>
            <a:off x="1523880" y="523224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钙磷乘积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" name="Text Box 45"/>
          <p:cNvSpPr/>
          <p:nvPr/>
        </p:nvSpPr>
        <p:spPr>
          <a:xfrm>
            <a:off x="4343400" y="523224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血钙正常或稍低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" name="Text Box 47"/>
          <p:cNvSpPr/>
          <p:nvPr/>
        </p:nvSpPr>
        <p:spPr>
          <a:xfrm>
            <a:off x="1295280" y="622296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骨钙化受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1" name="Group 48"/>
          <p:cNvGrpSpPr/>
          <p:nvPr/>
        </p:nvGrpSpPr>
        <p:grpSpPr>
          <a:xfrm>
            <a:off x="6948360" y="3000240"/>
            <a:ext cx="2076480" cy="3033360"/>
            <a:chOff x="6948360" y="3000240"/>
            <a:chExt cx="2076480" cy="3033360"/>
          </a:xfrm>
        </p:grpSpPr>
        <p:sp>
          <p:nvSpPr>
            <p:cNvPr id="432" name="AutoShape 46"/>
            <p:cNvSpPr/>
            <p:nvPr/>
          </p:nvSpPr>
          <p:spPr>
            <a:xfrm>
              <a:off x="6948360" y="3000240"/>
              <a:ext cx="2076480" cy="3033360"/>
            </a:xfrm>
            <a:prstGeom prst="foldedCorner">
              <a:avLst>
                <a:gd name="adj" fmla="val 12500"/>
              </a:avLst>
            </a:prstGeom>
            <a:solidFill>
              <a:srgbClr val="dddddd"/>
            </a:solidFill>
            <a:ln w="9360">
              <a:solidFill>
                <a:srgbClr val="046ca6"/>
              </a:solidFill>
              <a:miter/>
            </a:ln>
            <a:effectLst>
              <a:outerShdw dist="107932" dir="27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" name="Text Box 47"/>
            <p:cNvSpPr/>
            <p:nvPr/>
          </p:nvSpPr>
          <p:spPr>
            <a:xfrm>
              <a:off x="6976800" y="3170520"/>
              <a:ext cx="1913040" cy="15958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Clr>
                  <a:srgbClr val="ff0000"/>
                </a:buClr>
                <a:buSzPct val="7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华文仿宋"/>
                </a:rPr>
                <a:t>骨质疏松、软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buClr>
                  <a:srgbClr val="ff0000"/>
                </a:buClr>
                <a:buSzPct val="7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华文仿宋"/>
                </a:rPr>
                <a:t>未钙化的骨样组织增生堆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6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蛋白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能量营养不良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能量和（或）蛋白质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以下的婴幼儿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，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儿童中重度营养不良发生率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55%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4A220-0BB3-4B32-A53B-6B4A8F92BBA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分期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初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激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恢复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后遗症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4863960" y="2214360"/>
            <a:ext cx="3903840" cy="3881160"/>
          </a:xfrm>
          <a:prstGeom prst="rect">
            <a:avLst/>
          </a:prstGeom>
          <a:ln w="0">
            <a:noFill/>
          </a:ln>
        </p:spPr>
      </p:pic>
      <p:sp>
        <p:nvSpPr>
          <p:cNvPr id="43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5FEDE-4A35-4E21-8387-D6EE8BB4BA1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初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09640" y="1197000"/>
            <a:ext cx="736272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以内小儿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神经精神症状：易激惹、睡眠不安、夜间啼哭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汗、枕秃，骨骼改变不明显       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线 正常或钙化带稍模糊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清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5-(OH)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下降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钙正常或稍低、血磷降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KP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常或稍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96B38-1EEB-4EC3-959B-078122F2D1D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1" name="Rectangle 4"/>
          <p:cNvSpPr/>
          <p:nvPr/>
        </p:nvSpPr>
        <p:spPr>
          <a:xfrm>
            <a:off x="3429000" y="4876920"/>
            <a:ext cx="306864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09280" y="1557360"/>
            <a:ext cx="743436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骨骼改变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头部：颅骨软化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方颅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前囟增大 闭合延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出牙延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胸部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左右出现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肋骨串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郝氏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鸡胸、漏斗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A6E58-58E2-4AA3-A911-2ECEF796B05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4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4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09280" y="1557360"/>
            <a:ext cx="390204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骨骼改变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四肢：手镯、脚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型腿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型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脊柱：后突或侧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骨盆：扁平骨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AE5D6-21C1-47EB-819C-5ECDB63A7E2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迟缓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肌肉松弛、肌张力下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语言和动作发育落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免疫功能低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09EA-6E68-4E90-B78B-835C4A462DB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09280" y="1844640"/>
            <a:ext cx="455436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线改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骨骺端钙化带消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骨骺端呈杯口、毛刷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骨骺软骨带增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骨质稀疏、皮质变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A86E9-F27A-4698-94B1-275315B326C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4206D-F8DC-40A2-B32F-D78FAEC4523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5" name="Picture 2" descr=""/>
          <p:cNvPicPr/>
          <p:nvPr/>
        </p:nvPicPr>
        <p:blipFill>
          <a:blip r:embed="rId1">
            <a:lum bright="24000"/>
          </a:blip>
          <a:srcRect l="0" t="5580" r="0" b="26342"/>
          <a:stretch/>
        </p:blipFill>
        <p:spPr>
          <a:xfrm>
            <a:off x="2571840" y="1143000"/>
            <a:ext cx="4348080" cy="500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08047-B723-4B3D-9463-5C1033FCD3A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9" name="Picture 5" descr="Dsc00064"/>
          <p:cNvPicPr/>
          <p:nvPr/>
        </p:nvPicPr>
        <p:blipFill>
          <a:blip r:embed="rId1"/>
          <a:stretch/>
        </p:blipFill>
        <p:spPr>
          <a:xfrm>
            <a:off x="2022480" y="1413000"/>
            <a:ext cx="5099040" cy="4471920"/>
          </a:xfrm>
          <a:prstGeom prst="rect">
            <a:avLst/>
          </a:prstGeom>
          <a:ln w="0">
            <a:noFill/>
          </a:ln>
        </p:spPr>
      </p:pic>
      <p:sp>
        <p:nvSpPr>
          <p:cNvPr id="460" name="Line 7"/>
          <p:cNvSpPr/>
          <p:nvPr/>
        </p:nvSpPr>
        <p:spPr>
          <a:xfrm flipV="1">
            <a:off x="1673280" y="3978000"/>
            <a:ext cx="1170000" cy="530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" name="Line 8"/>
          <p:cNvSpPr/>
          <p:nvPr/>
        </p:nvSpPr>
        <p:spPr>
          <a:xfrm flipV="1">
            <a:off x="1165320" y="2817360"/>
            <a:ext cx="1170000" cy="530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09280" y="177300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化改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钙稍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磷明显降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K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明显增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2CE21-B92A-4136-99F1-81272F35396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恢复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症状明显减轻或消失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钙、磷浓度逐渐恢复正常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KP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恢复正常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改善，逐渐恢复正常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F12DA-2FA0-4362-B0EB-79829AA1321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男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因体重不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就诊。患儿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主要以米粉喂养，食欲欠佳，间断性腹泻，大便稀水样，每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。患儿系第一胎，第一产，足月顺产，出生体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0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纯母乳喂养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因母乳量不足，开始添加米粉，并以米粉为主。目前还添加少量菜泥和果泥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BF8D7-20E5-449D-803F-A68CFB13EB3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80414-E102-4A67-98AE-A3FA296CFF04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402920" y="4392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佝偻病后遗症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后小儿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同程度的骨骼畸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临床症状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正常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49D12-0E8A-406F-8346-BEED4CCB399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000~4000IU/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口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之后预防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00IU/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补钙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加强营养，及时添加辅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户外活动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E8F60-6647-4D1A-AA47-30A261190AC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0800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日光照射不足，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摄入不足等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成长发展迟缓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缺乏导致骨骼畸形， 运动、精神发育迟缓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潜在并发症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骨骼畸形、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毒、肺部感染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知识缺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家长缺乏佝偻病的预防和护理知识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50E26-AB0C-46E8-AF97-343F6391E36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增加日光照射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理补充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母乳喂养，及时添加辅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按医嘱给予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防止中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骨骼畸形和骨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感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1537D-F3C6-4CC5-9C60-077BB9812E3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预   防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孕母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户外活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注意饮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补充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3D3FA-E69C-4F32-9036-E570B5F6BA6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预   防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婴儿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尽早户外活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预防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生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~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周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00IU/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母乳喂养，及时添加辅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6EBC-7647-4E11-AC79-B3C318F51ED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要点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治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2000~4000IU/d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口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月，之后预防量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400IU/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补钙：若乳类摄入充足（每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00m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，则不需要补充钙剂。在有低血钙、严重佝偻病或乳类摄入不足时需补充钙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加强营养，及时添加富含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辅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户外活动，多晒太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1E492-B8D5-4E7C-830D-84BBCAA4899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C2B66-E164-439B-936D-3976F0D7ED48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维生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缺乏性手足搐搦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于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，血钙降低导致神经肌肉兴奋性增高，出现惊厥、喉痉挛或手足抽搐等症状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以内小儿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E664B-181C-4BBC-8D11-EDAD5EBDA23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9740B-05EE-4B3E-8EBA-8B467C7AF47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Text Box 2"/>
          <p:cNvSpPr/>
          <p:nvPr/>
        </p:nvSpPr>
        <p:spPr>
          <a:xfrm>
            <a:off x="1285920" y="944640"/>
            <a:ext cx="7924680" cy="51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VitD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肠道吸收钙磷减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血钙降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甲状旁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肾小管重吸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磷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减少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PTH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分泌增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en-US" sz="1800" spc="-1" strike="noStrike">
                <a:solidFill>
                  <a:srgbClr val="00b050"/>
                </a:solidFill>
                <a:latin typeface="黑体"/>
                <a:ea typeface="黑体"/>
              </a:rPr>
              <a:t>PTH</a:t>
            </a:r>
            <a:r>
              <a:rPr b="1" lang="zh-CN" sz="1800" spc="-1" strike="noStrike">
                <a:solidFill>
                  <a:srgbClr val="00b050"/>
                </a:solidFill>
                <a:latin typeface="黑体"/>
                <a:ea typeface="黑体"/>
              </a:rPr>
              <a:t>分泌不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低血磷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骨盐溶解              </a:t>
            </a:r>
            <a:r>
              <a:rPr b="1" lang="zh-CN" sz="1800" spc="-1" strike="noStrike">
                <a:solidFill>
                  <a:srgbClr val="00b050"/>
                </a:solidFill>
                <a:latin typeface="Arial"/>
                <a:ea typeface="黑体"/>
              </a:rPr>
              <a:t>血钙下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钙磷乘积下降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血钙正常或偏低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1800" spc="-1" strike="noStrike">
                <a:solidFill>
                  <a:srgbClr val="00b050"/>
                </a:solidFill>
                <a:latin typeface="Arial"/>
                <a:ea typeface="黑体"/>
              </a:rPr>
              <a:t>手足搐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骨钙化受阻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佝偻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5" name="Line 3"/>
          <p:cNvSpPr/>
          <p:nvPr/>
        </p:nvSpPr>
        <p:spPr>
          <a:xfrm flipH="1">
            <a:off x="4757400" y="2671920"/>
            <a:ext cx="685800" cy="4572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6" name="Line 4"/>
          <p:cNvSpPr/>
          <p:nvPr/>
        </p:nvSpPr>
        <p:spPr>
          <a:xfrm>
            <a:off x="5672160" y="2671920"/>
            <a:ext cx="685800" cy="533160"/>
          </a:xfrm>
          <a:prstGeom prst="line">
            <a:avLst/>
          </a:prstGeom>
          <a:ln cap="sq" w="38160">
            <a:solidFill>
              <a:srgbClr val="00b05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7" name="Line 5"/>
          <p:cNvSpPr/>
          <p:nvPr/>
        </p:nvSpPr>
        <p:spPr>
          <a:xfrm>
            <a:off x="4857840" y="4357800"/>
            <a:ext cx="0" cy="6094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" name="Line 6"/>
          <p:cNvSpPr/>
          <p:nvPr/>
        </p:nvSpPr>
        <p:spPr>
          <a:xfrm>
            <a:off x="6643800" y="3500280"/>
            <a:ext cx="0" cy="505080"/>
          </a:xfrm>
          <a:prstGeom prst="line">
            <a:avLst/>
          </a:prstGeom>
          <a:ln cap="sq" w="38160">
            <a:solidFill>
              <a:srgbClr val="00b05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" name="Line 8"/>
          <p:cNvSpPr/>
          <p:nvPr/>
        </p:nvSpPr>
        <p:spPr>
          <a:xfrm>
            <a:off x="2286000" y="3386160"/>
            <a:ext cx="0" cy="6858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" name="Line 11"/>
          <p:cNvSpPr/>
          <p:nvPr/>
        </p:nvSpPr>
        <p:spPr>
          <a:xfrm>
            <a:off x="5357880" y="2200320"/>
            <a:ext cx="0" cy="2286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1" name="Line 12"/>
          <p:cNvSpPr/>
          <p:nvPr/>
        </p:nvSpPr>
        <p:spPr>
          <a:xfrm>
            <a:off x="5357880" y="1200240"/>
            <a:ext cx="0" cy="2286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2" name="Line 13"/>
          <p:cNvSpPr/>
          <p:nvPr/>
        </p:nvSpPr>
        <p:spPr>
          <a:xfrm>
            <a:off x="5357880" y="1611360"/>
            <a:ext cx="0" cy="30492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3" name="Line 14"/>
          <p:cNvSpPr/>
          <p:nvPr/>
        </p:nvSpPr>
        <p:spPr>
          <a:xfrm flipH="1">
            <a:off x="928800" y="2500200"/>
            <a:ext cx="3962160" cy="0"/>
          </a:xfrm>
          <a:prstGeom prst="line">
            <a:avLst/>
          </a:prstGeom>
          <a:ln cap="sq"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" name="Line 15"/>
          <p:cNvSpPr/>
          <p:nvPr/>
        </p:nvSpPr>
        <p:spPr>
          <a:xfrm>
            <a:off x="1000080" y="5929200"/>
            <a:ext cx="38088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" name="Line 16"/>
          <p:cNvSpPr/>
          <p:nvPr/>
        </p:nvSpPr>
        <p:spPr>
          <a:xfrm flipH="1">
            <a:off x="3643200" y="3357720"/>
            <a:ext cx="45720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6" name="Line 19"/>
          <p:cNvSpPr/>
          <p:nvPr/>
        </p:nvSpPr>
        <p:spPr>
          <a:xfrm>
            <a:off x="4857840" y="3500280"/>
            <a:ext cx="0" cy="6652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7" name="Rectangle 20"/>
          <p:cNvSpPr/>
          <p:nvPr/>
        </p:nvSpPr>
        <p:spPr>
          <a:xfrm>
            <a:off x="5357880" y="357120"/>
            <a:ext cx="35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" name="Line 28"/>
          <p:cNvSpPr/>
          <p:nvPr/>
        </p:nvSpPr>
        <p:spPr>
          <a:xfrm>
            <a:off x="928800" y="2476440"/>
            <a:ext cx="46080" cy="3452760"/>
          </a:xfrm>
          <a:prstGeom prst="line">
            <a:avLst/>
          </a:prstGeom>
          <a:ln cap="sq"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" name="Line 45"/>
          <p:cNvSpPr/>
          <p:nvPr/>
        </p:nvSpPr>
        <p:spPr>
          <a:xfrm>
            <a:off x="6643800" y="4429080"/>
            <a:ext cx="0" cy="504720"/>
          </a:xfrm>
          <a:prstGeom prst="line">
            <a:avLst/>
          </a:prstGeom>
          <a:ln cap="sq" w="38160">
            <a:solidFill>
              <a:srgbClr val="00b05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510" name="直接箭头连接符 25"/>
          <p:cNvCxnSpPr/>
          <p:nvPr/>
        </p:nvCxnSpPr>
        <p:spPr>
          <a:xfrm>
            <a:off x="2857680" y="5928840"/>
            <a:ext cx="1429200" cy="2520"/>
          </a:xfrm>
          <a:prstGeom prst="straightConnector1">
            <a:avLst/>
          </a:prstGeom>
          <a:ln w="38160">
            <a:solidFill>
              <a:srgbClr val="046ca6"/>
            </a:solidFill>
            <a:miter/>
            <a:tailEnd len="med" type="arrow" w="med"/>
          </a:ln>
        </p:spPr>
      </p:cxnSp>
      <p:sp>
        <p:nvSpPr>
          <p:cNvPr id="511" name="Line 8"/>
          <p:cNvSpPr/>
          <p:nvPr/>
        </p:nvSpPr>
        <p:spPr>
          <a:xfrm>
            <a:off x="2286000" y="4314960"/>
            <a:ext cx="0" cy="6858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2" name="Line 8"/>
          <p:cNvSpPr/>
          <p:nvPr/>
        </p:nvSpPr>
        <p:spPr>
          <a:xfrm>
            <a:off x="2286000" y="5172120"/>
            <a:ext cx="0" cy="6858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典型发作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惊厥：最常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手足抽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喉痉挛：严重者导致死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D94B2-C8B6-4A5B-BC20-35FD7404055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16" name="Picture 6" descr="shouzhu "/>
          <p:cNvPicPr/>
          <p:nvPr/>
        </p:nvPicPr>
        <p:blipFill>
          <a:blip r:embed="rId1"/>
          <a:srcRect l="55672" t="26165" r="20935" b="37346"/>
          <a:stretch/>
        </p:blipFill>
        <p:spPr>
          <a:xfrm>
            <a:off x="6215040" y="2428920"/>
            <a:ext cx="2158920" cy="302112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7" descr="shouzhu "/>
          <p:cNvPicPr/>
          <p:nvPr/>
        </p:nvPicPr>
        <p:blipFill>
          <a:blip r:embed="rId2"/>
          <a:srcRect l="14321" t="38630" r="50576" b="37346"/>
          <a:stretch/>
        </p:blipFill>
        <p:spPr>
          <a:xfrm>
            <a:off x="2214720" y="4143240"/>
            <a:ext cx="3240000" cy="1989360"/>
          </a:xfrm>
          <a:prstGeom prst="rect">
            <a:avLst/>
          </a:prstGeom>
          <a:ln w="0">
            <a:noFill/>
          </a:ln>
        </p:spPr>
      </p:pic>
      <p:sp>
        <p:nvSpPr>
          <p:cNvPr id="518" name="Text Box 8"/>
          <p:cNvSpPr/>
          <p:nvPr/>
        </p:nvSpPr>
        <p:spPr>
          <a:xfrm>
            <a:off x="2857680" y="62150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助产士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" name="Text Box 9"/>
          <p:cNvSpPr/>
          <p:nvPr/>
        </p:nvSpPr>
        <p:spPr>
          <a:xfrm>
            <a:off x="6500880" y="585792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芭蕾舞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检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36.3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10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R2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身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5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体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.5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精神欠佳，前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2cm×1.2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稍凹陷，头发较少无光泽。皮肤干燥，弹性较差，无水肿。双肺呼吸音清，心音有力，未闻及杂音，腹部皮下脂肪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0.3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腹软，肝肋下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质软。实验室检查结果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Hb86g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P48g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LB29g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血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6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血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28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空腹血糖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5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；大便常规（—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该患儿的临床诊断是什么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EF60F-0926-4FE7-9516-ACEB21422D3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CED55-AE86-42EA-88EF-9D11F36D9AED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隐匿型体征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面神经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腓反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陶瑟氏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683A1-6382-48CE-BF54-51B7EABBB80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   疗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急救处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吸氧，保持呼吸道通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控制惊厥、喉痉挛：首选安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钙剂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％葡萄糖酸钙，静脉点滴或缓慢静脉注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&gt;10m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4E5AF-4668-4BE0-ADE9-2B881D840BF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潜在并发症：窒息（喉痉挛）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受伤的危险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惊厥发作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知识缺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长缺乏预防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的知识以及护理惊厥和喉痉挛的知识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9B52B-917F-47C0-BFA0-49A4CEE30BA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观察病情，做好急救准备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遵医嘱使用镇静剂、钙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加强户外活动，补充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23B57-B9DC-4834-B5BD-3BAA13D0A54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锌缺乏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摄入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吸收障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需要量增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丢失过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D51EB-2B22-44F0-A94F-E56848B133C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食欲减退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落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功能降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 脱发、皮肤粗糙、皮炎、地图舌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A1321-2486-4A30-8CCB-B09C95BFDA7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空腹血清锌浓度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1.47μmol/l(75μg/dl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餐后血清锌浓度反应试验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ICR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%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D1BE8-07A7-4162-B0E3-23BCB91E7ED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针对病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积极治疗原发疾病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当增加富含锌的食物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服锌制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77DF8-4A2B-47EE-B6A9-D55DFF8E897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 低于机体需要量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感染的危险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迟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知识缺乏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127B8-DB8A-4CC4-84DC-B3C88FD39CF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理喂养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感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A992A-1545-4D9C-B718-55E8EB0D178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喂养不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吸收不良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耗增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B8C10-BCEC-4548-87FB-96CE8D507B5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1396A-8D5B-48E0-BC70-7E5D0E896EC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7" name="WordArt 2"/>
          <p:cNvSpPr txBox="1"/>
          <p:nvPr/>
        </p:nvSpPr>
        <p:spPr>
          <a:xfrm>
            <a:off x="2643120" y="2643120"/>
            <a:ext cx="37339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理生理 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42146-E236-4C9C-9600-36B5375B3DD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94" name="Group 33"/>
          <p:cNvGrpSpPr/>
          <p:nvPr/>
        </p:nvGrpSpPr>
        <p:grpSpPr>
          <a:xfrm>
            <a:off x="2763720" y="1413000"/>
            <a:ext cx="2113200" cy="5205240"/>
            <a:chOff x="2763720" y="1413000"/>
            <a:chExt cx="2113200" cy="5205240"/>
          </a:xfrm>
        </p:grpSpPr>
        <p:sp>
          <p:nvSpPr>
            <p:cNvPr id="195" name="Text Box 7"/>
            <p:cNvSpPr/>
            <p:nvPr/>
          </p:nvSpPr>
          <p:spPr>
            <a:xfrm>
              <a:off x="2803680" y="2411280"/>
              <a:ext cx="1828800" cy="48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3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脂肪消耗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↑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AutoShape 8"/>
            <p:cNvSpPr/>
            <p:nvPr/>
          </p:nvSpPr>
          <p:spPr>
            <a:xfrm>
              <a:off x="3657600" y="3075120"/>
              <a:ext cx="200160" cy="707760"/>
            </a:xfrm>
            <a:prstGeom prst="downArrow">
              <a:avLst>
                <a:gd name="adj1" fmla="val 50000"/>
                <a:gd name="adj2" fmla="val 4842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Text Box 9"/>
            <p:cNvSpPr/>
            <p:nvPr/>
          </p:nvSpPr>
          <p:spPr>
            <a:xfrm>
              <a:off x="2925720" y="3865680"/>
              <a:ext cx="1625760" cy="9234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胆固醇和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皮下脂肪↓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8" name="Text Box 10"/>
            <p:cNvSpPr/>
            <p:nvPr/>
          </p:nvSpPr>
          <p:spPr>
            <a:xfrm>
              <a:off x="2763720" y="5516640"/>
              <a:ext cx="2113200" cy="1101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7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体重不增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脂肪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变性及浸润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AutoShape 11"/>
            <p:cNvSpPr/>
            <p:nvPr/>
          </p:nvSpPr>
          <p:spPr>
            <a:xfrm>
              <a:off x="3714840" y="4903920"/>
              <a:ext cx="214200" cy="541080"/>
            </a:xfrm>
            <a:prstGeom prst="downArrow">
              <a:avLst>
                <a:gd name="adj1" fmla="val 50000"/>
                <a:gd name="adj2" fmla="val 33306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AutoShape 20"/>
            <p:cNvSpPr/>
            <p:nvPr/>
          </p:nvSpPr>
          <p:spPr>
            <a:xfrm>
              <a:off x="3657600" y="1413000"/>
              <a:ext cx="200160" cy="873000"/>
            </a:xfrm>
            <a:prstGeom prst="downArrow">
              <a:avLst>
                <a:gd name="adj1" fmla="val 50000"/>
                <a:gd name="adj2" fmla="val 6701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1" name="Group 34"/>
          <p:cNvGrpSpPr/>
          <p:nvPr/>
        </p:nvGrpSpPr>
        <p:grpSpPr>
          <a:xfrm>
            <a:off x="4788000" y="1413000"/>
            <a:ext cx="1260360" cy="3144240"/>
            <a:chOff x="4788000" y="1413000"/>
            <a:chExt cx="1260360" cy="3144240"/>
          </a:xfrm>
        </p:grpSpPr>
        <p:sp>
          <p:nvSpPr>
            <p:cNvPr id="202" name="Text Box 12"/>
            <p:cNvSpPr/>
            <p:nvPr/>
          </p:nvSpPr>
          <p:spPr>
            <a:xfrm>
              <a:off x="4788000" y="2421000"/>
              <a:ext cx="1260360" cy="719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糖原不足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耗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↑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Text Box 13"/>
            <p:cNvSpPr/>
            <p:nvPr/>
          </p:nvSpPr>
          <p:spPr>
            <a:xfrm>
              <a:off x="4790880" y="4005360"/>
              <a:ext cx="1220400" cy="551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血糖↓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AutoShape 14"/>
            <p:cNvSpPr/>
            <p:nvPr/>
          </p:nvSpPr>
          <p:spPr>
            <a:xfrm>
              <a:off x="5219640" y="3286080"/>
              <a:ext cx="205920" cy="684360"/>
            </a:xfrm>
            <a:prstGeom prst="downArrow">
              <a:avLst>
                <a:gd name="adj1" fmla="val 50000"/>
                <a:gd name="adj2" fmla="val 3338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AutoShape 21"/>
            <p:cNvSpPr/>
            <p:nvPr/>
          </p:nvSpPr>
          <p:spPr>
            <a:xfrm>
              <a:off x="5278320" y="1413000"/>
              <a:ext cx="218520" cy="831600"/>
            </a:xfrm>
            <a:prstGeom prst="downArrow">
              <a:avLst>
                <a:gd name="adj1" fmla="val 50000"/>
                <a:gd name="adj2" fmla="val 6404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6" name="Group 32"/>
          <p:cNvGrpSpPr/>
          <p:nvPr/>
        </p:nvGrpSpPr>
        <p:grpSpPr>
          <a:xfrm>
            <a:off x="411120" y="1005480"/>
            <a:ext cx="2870640" cy="5158080"/>
            <a:chOff x="411120" y="1005480"/>
            <a:chExt cx="2870640" cy="5158080"/>
          </a:xfrm>
        </p:grpSpPr>
        <p:sp>
          <p:nvSpPr>
            <p:cNvPr id="207" name="Text Box 2"/>
            <p:cNvSpPr/>
            <p:nvPr/>
          </p:nvSpPr>
          <p:spPr>
            <a:xfrm>
              <a:off x="411120" y="2411280"/>
              <a:ext cx="2127240" cy="4849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3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蛋白质不足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8" name="AutoShape 3"/>
            <p:cNvSpPr/>
            <p:nvPr/>
          </p:nvSpPr>
          <p:spPr>
            <a:xfrm>
              <a:off x="1270080" y="2951280"/>
              <a:ext cx="214200" cy="747720"/>
            </a:xfrm>
            <a:prstGeom prst="downArrow">
              <a:avLst>
                <a:gd name="adj1" fmla="val 50000"/>
                <a:gd name="adj2" fmla="val 46026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Text Box 4"/>
            <p:cNvSpPr/>
            <p:nvPr/>
          </p:nvSpPr>
          <p:spPr>
            <a:xfrm>
              <a:off x="452520" y="3824280"/>
              <a:ext cx="2031840" cy="9612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>
                <a:lnSpc>
                  <a:spcPct val="11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总蛋白＜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0g/L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白蛋白＜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g/L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AutoShape 5"/>
            <p:cNvSpPr/>
            <p:nvPr/>
          </p:nvSpPr>
          <p:spPr>
            <a:xfrm>
              <a:off x="1270080" y="4946760"/>
              <a:ext cx="214200" cy="539640"/>
            </a:xfrm>
            <a:prstGeom prst="downArrow">
              <a:avLst>
                <a:gd name="adj1" fmla="val 50000"/>
                <a:gd name="adj2" fmla="val 3321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Text Box 6"/>
            <p:cNvSpPr/>
            <p:nvPr/>
          </p:nvSpPr>
          <p:spPr>
            <a:xfrm>
              <a:off x="411120" y="5611680"/>
              <a:ext cx="2200320" cy="5518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低蛋白水肿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AutoShape 23"/>
            <p:cNvSpPr/>
            <p:nvPr/>
          </p:nvSpPr>
          <p:spPr>
            <a:xfrm rot="3175200">
              <a:off x="2339280" y="695880"/>
              <a:ext cx="199800" cy="1960560"/>
            </a:xfrm>
            <a:prstGeom prst="downArrow">
              <a:avLst>
                <a:gd name="adj1" fmla="val 50000"/>
                <a:gd name="adj2" fmla="val 128791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3" name="Oval 24"/>
          <p:cNvSpPr/>
          <p:nvPr/>
        </p:nvSpPr>
        <p:spPr>
          <a:xfrm>
            <a:off x="3203640" y="506520"/>
            <a:ext cx="3097080" cy="11221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320" rIns="4932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4" name="组合 36"/>
          <p:cNvGrpSpPr/>
          <p:nvPr/>
        </p:nvGrpSpPr>
        <p:grpSpPr>
          <a:xfrm>
            <a:off x="5982840" y="1234440"/>
            <a:ext cx="2543760" cy="5222520"/>
            <a:chOff x="5982840" y="1234440"/>
            <a:chExt cx="2543760" cy="5222520"/>
          </a:xfrm>
        </p:grpSpPr>
        <p:sp>
          <p:nvSpPr>
            <p:cNvPr id="215" name="Text Box 15"/>
            <p:cNvSpPr/>
            <p:nvPr/>
          </p:nvSpPr>
          <p:spPr>
            <a:xfrm>
              <a:off x="6401880" y="2421360"/>
              <a:ext cx="1584720" cy="826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8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Text Box 16"/>
            <p:cNvSpPr/>
            <p:nvPr/>
          </p:nvSpPr>
          <p:spPr>
            <a:xfrm>
              <a:off x="6114600" y="3934080"/>
              <a:ext cx="2235600" cy="5853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6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钠在细胞内潴留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Rectangle 17"/>
            <p:cNvSpPr/>
            <p:nvPr/>
          </p:nvSpPr>
          <p:spPr>
            <a:xfrm>
              <a:off x="6186240" y="5402520"/>
              <a:ext cx="2340360" cy="1054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低渗性脱水、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低血钾、酸中毒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AutoShape 18"/>
            <p:cNvSpPr/>
            <p:nvPr/>
          </p:nvSpPr>
          <p:spPr>
            <a:xfrm>
              <a:off x="7097760" y="3283200"/>
              <a:ext cx="250560" cy="541080"/>
            </a:xfrm>
            <a:prstGeom prst="downArrow">
              <a:avLst>
                <a:gd name="adj1" fmla="val 50000"/>
                <a:gd name="adj2" fmla="val 33322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AutoShape 19"/>
            <p:cNvSpPr/>
            <p:nvPr/>
          </p:nvSpPr>
          <p:spPr>
            <a:xfrm>
              <a:off x="7097760" y="4780440"/>
              <a:ext cx="250560" cy="539640"/>
            </a:xfrm>
            <a:prstGeom prst="downArrow">
              <a:avLst>
                <a:gd name="adj1" fmla="val 50000"/>
                <a:gd name="adj2" fmla="val 3322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AutoShape 22"/>
            <p:cNvSpPr/>
            <p:nvPr/>
          </p:nvSpPr>
          <p:spPr>
            <a:xfrm rot="18895200">
              <a:off x="6441480" y="1117800"/>
              <a:ext cx="251640" cy="1400040"/>
            </a:xfrm>
            <a:prstGeom prst="downArrow">
              <a:avLst>
                <a:gd name="adj1" fmla="val 50000"/>
                <a:gd name="adj2" fmla="val 14560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29"/>
            <p:cNvSpPr/>
            <p:nvPr/>
          </p:nvSpPr>
          <p:spPr>
            <a:xfrm>
              <a:off x="6474960" y="2349720"/>
              <a:ext cx="1584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水电解质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代谢异常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2" name="Text Box 30"/>
          <p:cNvSpPr/>
          <p:nvPr/>
        </p:nvSpPr>
        <p:spPr>
          <a:xfrm>
            <a:off x="3564000" y="82224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新陈代谢异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3" name="Group 36"/>
          <p:cNvGrpSpPr/>
          <p:nvPr/>
        </p:nvGrpSpPr>
        <p:grpSpPr>
          <a:xfrm>
            <a:off x="6372360" y="907920"/>
            <a:ext cx="2158920" cy="720720"/>
            <a:chOff x="6372360" y="907920"/>
            <a:chExt cx="2158920" cy="720720"/>
          </a:xfrm>
        </p:grpSpPr>
        <p:sp>
          <p:nvSpPr>
            <p:cNvPr id="224" name="AutoShape 27"/>
            <p:cNvSpPr/>
            <p:nvPr/>
          </p:nvSpPr>
          <p:spPr>
            <a:xfrm>
              <a:off x="6372360" y="1052280"/>
              <a:ext cx="690480" cy="235080"/>
            </a:xfrm>
            <a:prstGeom prst="rightArrow">
              <a:avLst>
                <a:gd name="adj1" fmla="val 50000"/>
                <a:gd name="adj2" fmla="val 5938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5" name="AutoShape 28"/>
            <p:cNvSpPr/>
            <p:nvPr/>
          </p:nvSpPr>
          <p:spPr>
            <a:xfrm>
              <a:off x="7307280" y="907920"/>
              <a:ext cx="1224000" cy="720720"/>
            </a:xfrm>
            <a:prstGeom prst="roundRect">
              <a:avLst>
                <a:gd name="adj" fmla="val 16667"/>
              </a:avLst>
            </a:prstGeom>
            <a:solidFill>
              <a:srgbClr val="f9bfcb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Text Box 31"/>
            <p:cNvSpPr/>
            <p:nvPr/>
          </p:nvSpPr>
          <p:spPr>
            <a:xfrm>
              <a:off x="7380360" y="1052280"/>
              <a:ext cx="115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低体温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47280" y="1341360"/>
            <a:ext cx="45975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各系统功能低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062F7-5744-408F-95C8-9B240B0CC48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0" name="Group 39"/>
          <p:cNvGrpSpPr/>
          <p:nvPr/>
        </p:nvGrpSpPr>
        <p:grpSpPr>
          <a:xfrm>
            <a:off x="2340000" y="2077920"/>
            <a:ext cx="2376360" cy="4182120"/>
            <a:chOff x="2340000" y="2077920"/>
            <a:chExt cx="2376360" cy="4182120"/>
          </a:xfrm>
        </p:grpSpPr>
        <p:sp>
          <p:nvSpPr>
            <p:cNvPr id="231" name="AutoShape 3"/>
            <p:cNvSpPr/>
            <p:nvPr/>
          </p:nvSpPr>
          <p:spPr>
            <a:xfrm>
              <a:off x="3373560" y="2077920"/>
              <a:ext cx="198360" cy="547920"/>
            </a:xfrm>
            <a:prstGeom prst="downArrow">
              <a:avLst>
                <a:gd name="adj1" fmla="val 50000"/>
                <a:gd name="adj2" fmla="val 42112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2641680" y="2625840"/>
              <a:ext cx="1828800" cy="405720"/>
            </a:xfrm>
            <a:prstGeom prst="rect">
              <a:avLst/>
            </a:prstGeom>
            <a:solidFill>
              <a:srgbClr val="e3fafd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3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循环系统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" name="AutoShape 12"/>
            <p:cNvSpPr/>
            <p:nvPr/>
          </p:nvSpPr>
          <p:spPr>
            <a:xfrm>
              <a:off x="3332160" y="3220920"/>
              <a:ext cx="168120" cy="478080"/>
            </a:xfrm>
            <a:prstGeom prst="downArrow">
              <a:avLst>
                <a:gd name="adj1" fmla="val 50000"/>
                <a:gd name="adj2" fmla="val 2943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Text Box 13"/>
            <p:cNvSpPr/>
            <p:nvPr/>
          </p:nvSpPr>
          <p:spPr>
            <a:xfrm>
              <a:off x="2519280" y="3699000"/>
              <a:ext cx="1951200" cy="378360"/>
            </a:xfrm>
            <a:prstGeom prst="rect">
              <a:avLst/>
            </a:prstGeom>
            <a:solidFill>
              <a:srgbClr val="e3fafd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20000"/>
                </a:lnSpc>
                <a:spcBef>
                  <a:spcPts val="451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心肌收缩力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2847960" y="4654440"/>
              <a:ext cx="1422360" cy="460800"/>
            </a:xfrm>
            <a:prstGeom prst="rect">
              <a:avLst/>
            </a:prstGeom>
            <a:solidFill>
              <a:srgbClr val="e3fafd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心博量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AutoShape 15"/>
            <p:cNvSpPr/>
            <p:nvPr/>
          </p:nvSpPr>
          <p:spPr>
            <a:xfrm>
              <a:off x="3332160" y="4195800"/>
              <a:ext cx="168120" cy="458640"/>
            </a:xfrm>
            <a:prstGeom prst="downArrow">
              <a:avLst>
                <a:gd name="adj1" fmla="val 50000"/>
                <a:gd name="adj2" fmla="val 28240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AutoShape 20"/>
            <p:cNvSpPr/>
            <p:nvPr/>
          </p:nvSpPr>
          <p:spPr>
            <a:xfrm>
              <a:off x="3292560" y="5259240"/>
              <a:ext cx="207720" cy="540000"/>
            </a:xfrm>
            <a:prstGeom prst="downArrow">
              <a:avLst>
                <a:gd name="adj1" fmla="val 50000"/>
                <a:gd name="adj2" fmla="val 33254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Text Box 21"/>
            <p:cNvSpPr/>
            <p:nvPr/>
          </p:nvSpPr>
          <p:spPr>
            <a:xfrm>
              <a:off x="2340000" y="5799240"/>
              <a:ext cx="2376360" cy="460800"/>
            </a:xfrm>
            <a:prstGeom prst="rect">
              <a:avLst/>
            </a:prstGeom>
            <a:solidFill>
              <a:srgbClr val="e3fafd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脉细弱、 </a:t>
              </a:r>
              <a:r>
                <a:rPr b="1" lang="en-US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BP 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9" name="Group 40"/>
          <p:cNvGrpSpPr/>
          <p:nvPr/>
        </p:nvGrpSpPr>
        <p:grpSpPr>
          <a:xfrm>
            <a:off x="4449600" y="1989000"/>
            <a:ext cx="2560680" cy="3372480"/>
            <a:chOff x="4449600" y="1989000"/>
            <a:chExt cx="2560680" cy="3372480"/>
          </a:xfrm>
        </p:grpSpPr>
        <p:sp>
          <p:nvSpPr>
            <p:cNvPr id="240" name="AutoShape 4"/>
            <p:cNvSpPr/>
            <p:nvPr/>
          </p:nvSpPr>
          <p:spPr>
            <a:xfrm>
              <a:off x="5405400" y="1989000"/>
              <a:ext cx="238320" cy="831960"/>
            </a:xfrm>
            <a:prstGeom prst="downArrow">
              <a:avLst>
                <a:gd name="adj1" fmla="val 50000"/>
                <a:gd name="adj2" fmla="val 63855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Text Box 16"/>
            <p:cNvSpPr/>
            <p:nvPr/>
          </p:nvSpPr>
          <p:spPr>
            <a:xfrm>
              <a:off x="4788000" y="2852640"/>
              <a:ext cx="1503360" cy="323640"/>
            </a:xfrm>
            <a:prstGeom prst="rect">
              <a:avLst/>
            </a:prstGeom>
            <a:solidFill>
              <a:srgbClr val="ffff8b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泌尿系统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Text Box 17"/>
            <p:cNvSpPr/>
            <p:nvPr/>
          </p:nvSpPr>
          <p:spPr>
            <a:xfrm>
              <a:off x="4551480" y="3870360"/>
              <a:ext cx="2252520" cy="460800"/>
            </a:xfrm>
            <a:prstGeom prst="rect">
              <a:avLst/>
            </a:prstGeom>
            <a:solidFill>
              <a:srgbClr val="ffff8b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小管重吸收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AutoShape 18"/>
            <p:cNvSpPr/>
            <p:nvPr/>
          </p:nvSpPr>
          <p:spPr>
            <a:xfrm>
              <a:off x="5405400" y="3330720"/>
              <a:ext cx="238320" cy="539640"/>
            </a:xfrm>
            <a:prstGeom prst="downArrow">
              <a:avLst>
                <a:gd name="adj1" fmla="val 50000"/>
                <a:gd name="adj2" fmla="val 33169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AutoShape 22"/>
            <p:cNvSpPr/>
            <p:nvPr/>
          </p:nvSpPr>
          <p:spPr>
            <a:xfrm>
              <a:off x="5405400" y="4473720"/>
              <a:ext cx="238320" cy="541080"/>
            </a:xfrm>
            <a:prstGeom prst="downArrow">
              <a:avLst>
                <a:gd name="adj1" fmla="val 50000"/>
                <a:gd name="adj2" fmla="val 3325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Text Box 23"/>
            <p:cNvSpPr/>
            <p:nvPr/>
          </p:nvSpPr>
          <p:spPr>
            <a:xfrm>
              <a:off x="4449600" y="5065560"/>
              <a:ext cx="2560680" cy="295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尿多、 尿比重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6" name="Group 38"/>
          <p:cNvGrpSpPr/>
          <p:nvPr/>
        </p:nvGrpSpPr>
        <p:grpSpPr>
          <a:xfrm>
            <a:off x="34920" y="1681560"/>
            <a:ext cx="2641680" cy="4954320"/>
            <a:chOff x="34920" y="1681560"/>
            <a:chExt cx="2641680" cy="4954320"/>
          </a:xfrm>
        </p:grpSpPr>
        <p:sp>
          <p:nvSpPr>
            <p:cNvPr id="247" name="AutoShape 6"/>
            <p:cNvSpPr/>
            <p:nvPr/>
          </p:nvSpPr>
          <p:spPr>
            <a:xfrm rot="3175200">
              <a:off x="1699200" y="1360800"/>
              <a:ext cx="189000" cy="1993680"/>
            </a:xfrm>
            <a:prstGeom prst="downArrow">
              <a:avLst>
                <a:gd name="adj1" fmla="val 50000"/>
                <a:gd name="adj2" fmla="val 13097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Text Box 7"/>
            <p:cNvSpPr/>
            <p:nvPr/>
          </p:nvSpPr>
          <p:spPr>
            <a:xfrm>
              <a:off x="244440" y="3159000"/>
              <a:ext cx="1787400" cy="4057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3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AutoShape 8"/>
            <p:cNvSpPr/>
            <p:nvPr/>
          </p:nvSpPr>
          <p:spPr>
            <a:xfrm>
              <a:off x="974880" y="3740040"/>
              <a:ext cx="239400" cy="541440"/>
            </a:xfrm>
            <a:prstGeom prst="downArrow">
              <a:avLst>
                <a:gd name="adj1" fmla="val 50000"/>
                <a:gd name="adj2" fmla="val 33349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Text Box 9"/>
            <p:cNvSpPr/>
            <p:nvPr/>
          </p:nvSpPr>
          <p:spPr>
            <a:xfrm>
              <a:off x="34920" y="4357800"/>
              <a:ext cx="2641680" cy="3510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1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液和消化酶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AutoShape 10"/>
            <p:cNvSpPr/>
            <p:nvPr/>
          </p:nvSpPr>
          <p:spPr>
            <a:xfrm>
              <a:off x="974880" y="4903920"/>
              <a:ext cx="239400" cy="541080"/>
            </a:xfrm>
            <a:prstGeom prst="downArrow">
              <a:avLst>
                <a:gd name="adj1" fmla="val 50000"/>
                <a:gd name="adj2" fmla="val 3332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AutoShape 26"/>
            <p:cNvSpPr/>
            <p:nvPr/>
          </p:nvSpPr>
          <p:spPr>
            <a:xfrm>
              <a:off x="179280" y="5472000"/>
              <a:ext cx="1656000" cy="1163880"/>
            </a:xfrm>
            <a:prstGeom prst="octagon">
              <a:avLst>
                <a:gd name="adj" fmla="val 29287"/>
              </a:avLst>
            </a:prstGeom>
            <a:solidFill>
              <a:srgbClr val="ffcc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菌群失调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腹泻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3" name="Group 42"/>
          <p:cNvGrpSpPr/>
          <p:nvPr/>
        </p:nvGrpSpPr>
        <p:grpSpPr>
          <a:xfrm>
            <a:off x="6421320" y="1413000"/>
            <a:ext cx="2543400" cy="720720"/>
            <a:chOff x="6421320" y="1413000"/>
            <a:chExt cx="2543400" cy="720720"/>
          </a:xfrm>
        </p:grpSpPr>
        <p:sp>
          <p:nvSpPr>
            <p:cNvPr id="254" name="AutoShape 27"/>
            <p:cNvSpPr/>
            <p:nvPr/>
          </p:nvSpPr>
          <p:spPr>
            <a:xfrm>
              <a:off x="7236000" y="1413000"/>
              <a:ext cx="1657080" cy="720720"/>
            </a:xfrm>
            <a:prstGeom prst="roundRect">
              <a:avLst>
                <a:gd name="adj" fmla="val 16667"/>
              </a:avLst>
            </a:prstGeom>
            <a:solidFill>
              <a:srgbClr val="f9bfcb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AutoShape 28"/>
            <p:cNvSpPr/>
            <p:nvPr/>
          </p:nvSpPr>
          <p:spPr>
            <a:xfrm>
              <a:off x="6421320" y="1557720"/>
              <a:ext cx="690840" cy="230040"/>
            </a:xfrm>
            <a:prstGeom prst="rightArrow">
              <a:avLst>
                <a:gd name="adj1" fmla="val 50000"/>
                <a:gd name="adj2" fmla="val 5947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Text Box 35"/>
            <p:cNvSpPr/>
            <p:nvPr/>
          </p:nvSpPr>
          <p:spPr>
            <a:xfrm>
              <a:off x="7236000" y="1557720"/>
              <a:ext cx="172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免疫功能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7" name="Group 41"/>
          <p:cNvGrpSpPr/>
          <p:nvPr/>
        </p:nvGrpSpPr>
        <p:grpSpPr>
          <a:xfrm>
            <a:off x="6184080" y="1755360"/>
            <a:ext cx="2851920" cy="4698000"/>
            <a:chOff x="6184080" y="1755360"/>
            <a:chExt cx="2851920" cy="4698000"/>
          </a:xfrm>
        </p:grpSpPr>
        <p:sp>
          <p:nvSpPr>
            <p:cNvPr id="258" name="AutoShape 5"/>
            <p:cNvSpPr/>
            <p:nvPr/>
          </p:nvSpPr>
          <p:spPr>
            <a:xfrm rot="18895200">
              <a:off x="6790680" y="1562760"/>
              <a:ext cx="201600" cy="1797120"/>
            </a:xfrm>
            <a:prstGeom prst="downArrow">
              <a:avLst>
                <a:gd name="adj1" fmla="val 50000"/>
                <a:gd name="adj2" fmla="val 154886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AutoShape 19"/>
            <p:cNvSpPr/>
            <p:nvPr/>
          </p:nvSpPr>
          <p:spPr>
            <a:xfrm>
              <a:off x="7812000" y="3860640"/>
              <a:ext cx="189000" cy="409680"/>
            </a:xfrm>
            <a:prstGeom prst="downArrow">
              <a:avLst>
                <a:gd name="adj1" fmla="val 50000"/>
                <a:gd name="adj2" fmla="val 2518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AutoShape 24"/>
            <p:cNvSpPr/>
            <p:nvPr/>
          </p:nvSpPr>
          <p:spPr>
            <a:xfrm>
              <a:off x="7236000" y="5445000"/>
              <a:ext cx="1512720" cy="1008360"/>
            </a:xfrm>
            <a:prstGeom prst="octagon">
              <a:avLst>
                <a:gd name="adj" fmla="val 29287"/>
              </a:avLst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AutoShape 25"/>
            <p:cNvSpPr/>
            <p:nvPr/>
          </p:nvSpPr>
          <p:spPr>
            <a:xfrm>
              <a:off x="6948360" y="3116160"/>
              <a:ext cx="1944720" cy="62388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Rectangle 33"/>
            <p:cNvSpPr/>
            <p:nvPr/>
          </p:nvSpPr>
          <p:spPr>
            <a:xfrm>
              <a:off x="7380360" y="4292640"/>
              <a:ext cx="1295280" cy="720720"/>
            </a:xfrm>
            <a:prstGeom prst="rect">
              <a:avLst/>
            </a:prstGeom>
            <a:solidFill>
              <a:srgbClr val="c1ffe6"/>
            </a:solidFill>
            <a:ln cap="sq" w="1260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AutoShape 34"/>
            <p:cNvSpPr/>
            <p:nvPr/>
          </p:nvSpPr>
          <p:spPr>
            <a:xfrm>
              <a:off x="7812000" y="5084640"/>
              <a:ext cx="189000" cy="336600"/>
            </a:xfrm>
            <a:prstGeom prst="downArrow">
              <a:avLst>
                <a:gd name="adj1" fmla="val 50000"/>
                <a:gd name="adj2" fmla="val 24999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4" name="Text Box 36"/>
            <p:cNvSpPr/>
            <p:nvPr/>
          </p:nvSpPr>
          <p:spPr>
            <a:xfrm>
              <a:off x="6877080" y="3200400"/>
              <a:ext cx="20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中枢神经系统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38"/>
            <p:cNvSpPr/>
            <p:nvPr/>
          </p:nvSpPr>
          <p:spPr>
            <a:xfrm>
              <a:off x="7380360" y="4335480"/>
              <a:ext cx="165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脑体积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脑细胞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Text Box 39"/>
            <p:cNvSpPr/>
            <p:nvPr/>
          </p:nvSpPr>
          <p:spPr>
            <a:xfrm>
              <a:off x="7380360" y="551664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脑不可逆损伤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67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理生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刘云涛</cp:lastModifiedBy>
  <dcterms:modified xsi:type="dcterms:W3CDTF">2015-09-01T09:36:15Z</dcterms:modified>
  <cp:revision>157</cp:revision>
  <dc:subject/>
  <dc:title>内科护理学</dc:title>
</cp:coreProperties>
</file>